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431-6055-48E1-A16A-F3FA4655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D29-D2DA-48AA-9D97-467976F2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292-F41D-4713-9751-CDEEB15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492-E5CC-4AA2-A38E-EB232176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7DF-A3EB-4B8A-9015-BE9A82E8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AA9-2430-400D-926A-728B4BD2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D56-3216-4A4F-B437-C7E24A07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D6F-10DE-451A-BC53-662C04DE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783-A862-461D-9A29-E3CDC344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94B-DA7F-4D98-B893-A4FD4F3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34E-2B6B-46C0-B39A-36A3315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224-5FEC-42D7-932A-E4F76DB9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3AB4-1EC8-4FEE-AA40-7EB31485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50states.com/Massachusett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massachusetts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71102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80880"/>
            <a:ext cx="71625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400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assachusetts</a:t>
            </a:r>
            <a:endParaRPr b="0" lang="en-US" sz="1800" spc="1" strike="noStrike">
              <a:ln w="5400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4876920"/>
            <a:ext cx="2362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Jac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iod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omputer #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1903320" cy="183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6545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38000">
            <a:off x="4055760" y="4878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Mayflower is beauti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257800"/>
            <a:ext cx="18288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ssachusetts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10/7/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50states.com/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Name: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apitol: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opulation: 6,398,7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tered the Union: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May 16,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tto: Ense petit placidam sub Liberate quietem (By the sword we seek peace, but peace only under Liber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ickname: Bay state/ Old Colony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lower: May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ird: Black-Capped Chickad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178452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86600" y="1371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6094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assachusetts state flo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7631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ng: Hail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eaning Behind Name: Named after local Indian tribe whose name means “a large hill pl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nteresting Facts: Border States are</a:t>
            </a: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nnecticut, New Hampshire, New York, Rhode Island, Vermont. Largest Cities are Boston, Worcester, Springfield, Lowell, New Bedfor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5760" y="4572000"/>
            <a:ext cx="184140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29200" y="65451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Massachusetts: Map and State Flag"/>
          <p:cNvPicPr/>
          <p:nvPr/>
        </p:nvPicPr>
        <p:blipFill>
          <a:blip r:embed="rId1"/>
          <a:srcRect l="0" t="0" r="0" b="50548"/>
          <a:stretch/>
        </p:blipFill>
        <p:spPr>
          <a:xfrm>
            <a:off x="4724280" y="380880"/>
            <a:ext cx="386712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Massachusetts: Map and State Flag"/>
          <p:cNvPicPr/>
          <p:nvPr/>
        </p:nvPicPr>
        <p:blipFill>
          <a:blip r:embed="rId2"/>
          <a:srcRect l="0" t="45179" r="0" b="0"/>
          <a:stretch/>
        </p:blipFill>
        <p:spPr>
          <a:xfrm>
            <a:off x="228600" y="1143000"/>
            <a:ext cx="42480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1036600">
            <a:off x="517680" y="2209680"/>
            <a:ext cx="22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roadway"/>
              </a:rPr>
              <a:t>Massachuse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76920"/>
            <a:ext cx="8153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Quick facts Massachusett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, 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Kristen ITC"/>
                <a:hlinkClick r:id="rId3"/>
              </a:rPr>
              <a:t>http://bensguide.gpo.gov/3-5/state/massachuset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880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is is a picture of the Salem Witch Museum in Massachuset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0"/>
            <a:ext cx="7010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Salem, Ma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, September 23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Kristen ITC"/>
                <a:hlinkClick r:id="rId2"/>
              </a:rPr>
              <a:t>http://www.postcardsfrom.com/t1/9711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7:06Z</dcterms:created>
  <dc:creator>install</dc:creator>
  <dc:description/>
  <dc:language>en-US</dc:language>
  <cp:lastModifiedBy>install</cp:lastModifiedBy>
  <dcterms:modified xsi:type="dcterms:W3CDTF">2010-10-14T13:19:45Z</dcterms:modified>
  <cp:revision>11</cp:revision>
  <dc:subject/>
  <dc:title>Slide 1</dc:title>
</cp:coreProperties>
</file>